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800-A5B7-4449-90C7-292806BD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D85-EA24-424B-A2DC-4B2F12C3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04EF-296E-4B45-B463-DCE0E6B6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D734-254C-4900-9A66-B555BD0E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4578-1B40-42D8-B0CC-76529B7F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3762-4974-4110-94F6-42BC3B0A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4DB-9D41-497A-A173-C5534C51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378-BC77-4340-92B4-95B294263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D06-8979-46F0-A89D-6EABD30D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40A-94E9-43BC-A6E8-1F663DEA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76D7-78A9-49B3-9D81-15CC5FBF6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 electron clouds moving in response to external fie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questions about melting point and boiling point are about intermolecular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y special attention to H-bonding and Van de Waals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2F41-1E34-41FF-8EAF-4AAEF4C4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6084-A4E5-4E1E-AA82-EED34931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FE6-19AD-4123-8A54-A8032D82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B66-B9A5-4FB5-B109-9F55C763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AB88-8C5C-4941-A957-E181976F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9ED-DB86-4DEE-BAB4-11637D9E8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36C3-96F0-4163-870D-4E072E98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D6F-78D8-4CC9-986A-B6918D82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838-5201-4EAC-835F-5F7B3B9D5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0E03-CBF1-42AC-A599-AFDE3FB9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7BC-5595-45A5-AB88-5E5F7B9B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280" y="2498400"/>
            <a:ext cx="77929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55160" y="2629080"/>
            <a:ext cx="892332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8964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1" marL="249480" indent="25128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2" marL="501120" indent="25092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3" marL="752400" indent="25128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4" marL="1004040" indent="250920">
              <a:lnSpc>
                <a:spcPct val="147000"/>
              </a:lnSpc>
              <a:spcBef>
                <a:spcPts val="799"/>
              </a:spcBef>
              <a:buClr>
                <a:srgbClr val="8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5" marL="1004040" indent="250920">
              <a:lnSpc>
                <a:spcPct val="14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lvl="6" marL="1004040" indent="250920">
              <a:lnSpc>
                <a:spcPct val="14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2400" y="2604600"/>
            <a:ext cx="895824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9072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1" marL="252360" indent="25416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2" marL="506520" indent="25380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3" marL="760320" indent="25416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4" marL="1014480" indent="253800">
              <a:lnSpc>
                <a:spcPct val="147000"/>
              </a:lnSpc>
              <a:spcBef>
                <a:spcPts val="700"/>
              </a:spcBef>
              <a:buClr>
                <a:srgbClr val="b7ffd7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5" marL="1014480" indent="253800">
              <a:lnSpc>
                <a:spcPct val="147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  <a:p>
            <a:pPr lvl="6" marL="1014480" indent="253800">
              <a:lnSpc>
                <a:spcPct val="147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earnerstv.com/animation/animation.php?ani=187&amp;cat=chemistry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CTURE 1: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04920" y="4038480"/>
            <a:ext cx="83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9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B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ization, Bonding, Resonance and Intermolecular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 and VSE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15400" cy="5118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93840" y="1143000"/>
            <a:ext cx="474048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9520" y="1066680"/>
            <a:ext cx="86565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ma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direct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i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lateral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600" y="6019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 is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Fig 1-10 orbital diagram.jpg"/>
          <p:cNvPicPr/>
          <p:nvPr/>
        </p:nvPicPr>
        <p:blipFill>
          <a:blip r:embed="rId1"/>
          <a:stretch/>
        </p:blipFill>
        <p:spPr>
          <a:xfrm>
            <a:off x="2362320" y="2438280"/>
            <a:ext cx="4876560" cy="3559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0880" y="1271520"/>
            <a:ext cx="900108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2400" y="2604600"/>
            <a:ext cx="8958240" cy="21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7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09520" y="1066680"/>
            <a:ext cx="86565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ple bond results from one sigma, and two pi orbitals overla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920" y="6248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nds are easier to br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4184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IGMA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 AND PI(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)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09520" y="1066680"/>
            <a:ext cx="865656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ma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direct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i b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from the lateral overlap of atomic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28600" y="6019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overlap is weaker, the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 is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LECTRON DELOCAL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80880" y="1295280"/>
            <a:ext cx="84582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arnerstv.com/animation/animation.php?ani=187&amp;cat=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bSLxoX27G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for drawing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esonance stru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have more than eight valence electrons (but less is oka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reak sigma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Hin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art the movement from 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ne pair or dou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Fig 1-13 Benzene.jpg"/>
          <p:cNvPicPr/>
          <p:nvPr/>
        </p:nvPicPr>
        <p:blipFill>
          <a:blip r:embed="rId2"/>
          <a:stretch/>
        </p:blipFill>
        <p:spPr>
          <a:xfrm>
            <a:off x="1905120" y="3962520"/>
            <a:ext cx="6811920" cy="25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ECTRON DE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04920" y="1523880"/>
            <a:ext cx="845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hings to know about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romat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 pla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conjugated unsatur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s obey Huckel’s Rul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n + 2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lectr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8"/>
          <p:cNvGraphicFramePr/>
          <p:nvPr/>
        </p:nvGraphicFramePr>
        <p:xfrm>
          <a:off x="685800" y="4495680"/>
          <a:ext cx="28954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2895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-96840" y="330120"/>
            <a:ext cx="922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POLE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pole mo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when the majority of negative charge is at one end of a molecule or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Fig 1-15 Dipole molecules.jpg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55760" y="490680"/>
            <a:ext cx="811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457200" y="1828800"/>
            <a:ext cx="76230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880" y="1600200"/>
            <a:ext cx="8229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ed Di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aneous Di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don Dispersion Forces or Van de Waals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CTURE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igma and Pi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Electron Delocalization and Re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ipole Moment and Intermolecular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512640" y="463680"/>
            <a:ext cx="8116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371760" y="4781520"/>
            <a:ext cx="1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41360" y="1230480"/>
            <a:ext cx="8474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hybridization for the carbon indicated by the arr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5181480" y="1752480"/>
          <a:ext cx="18288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18288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512640" y="463680"/>
            <a:ext cx="81169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371760" y="4781520"/>
            <a:ext cx="1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41360" y="123048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Which of the following is an invalid resonance structure of pyridin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14400" y="2362320"/>
          <a:ext cx="7264440" cy="15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26444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990720" y="594360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3276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9576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ONDING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416720" cy="32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249480">
              <a:lnSpc>
                <a:spcPct val="128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⋆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c Chemistry is concerned almost exclusively with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ovalent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s.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  <a:p>
            <a:pPr indent="249480">
              <a:lnSpc>
                <a:spcPct val="128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⋆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bonds are formed because there is an electrostatic attraction between the nuclei and the two electrons in the bond.</a:t>
            </a:r>
            <a:endParaRPr b="0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438280" y="5105520"/>
            <a:ext cx="396252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b0ff"/>
              </a:gs>
            </a:gsLst>
            <a:lin ang="2700000"/>
          </a:gra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5040" y="30780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8600" y="1143000"/>
            <a:ext cx="865656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3pV690yJ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onside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tomic orbit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Carb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920" y="5410080"/>
            <a:ext cx="8656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ppears that the carbon atom can only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nds in this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Fig 1-8 carbon electrons.jpg"/>
          <p:cNvPicPr/>
          <p:nvPr/>
        </p:nvPicPr>
        <p:blipFill>
          <a:blip r:embed="rId1"/>
          <a:stretch/>
        </p:blipFill>
        <p:spPr>
          <a:xfrm>
            <a:off x="1600200" y="2057400"/>
            <a:ext cx="62452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09520" y="144288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1(s) + 3(p) orbitals went into the hybridization, all four orbitals are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p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hybrid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Fig 1-9 carbon sigma bond.jpg"/>
          <p:cNvPicPr/>
          <p:nvPr/>
        </p:nvPicPr>
        <p:blipFill>
          <a:blip r:embed="rId1"/>
          <a:stretch/>
        </p:blipFill>
        <p:spPr>
          <a:xfrm>
            <a:off x="609480" y="2209680"/>
            <a:ext cx="7931160" cy="2970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97200" y="330120"/>
            <a:ext cx="92250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8000"/>
              </a:lnSpc>
              <a:spcBef>
                <a:spcPts val="9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8840" y="114300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there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gene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860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1(s) + 3(p) orbitals went into the hybridization, all four orbitals are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p</a:t>
            </a:r>
            <a:r>
              <a:rPr b="1" lang="en-US" sz="2400" spc="-1" strike="noStrike" baseline="30000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hybrid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172200" cy="4057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9520" y="1442880"/>
            <a:ext cx="865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ybridizations of the carbon atom and “p charac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Fig 1-11 Molecule Shape Table.jpg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2092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53341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g1fGXDRxS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09520" y="1442880"/>
            <a:ext cx="86565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hybridization of carbon in a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electron “zones” and ensure that the zones add up to the ex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457200" y="3429000"/>
          <a:ext cx="365760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29000"/>
                    <a:ext cx="365760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-96840" y="330120"/>
            <a:ext cx="9225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8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2012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dkiL</cp:lastModifiedBy>
  <dcterms:modified xsi:type="dcterms:W3CDTF">2009-02-24T15:40:43Z</dcterms:modified>
  <cp:revision>30</cp:revision>
  <dc:subject/>
  <dc:title> </dc:title>
</cp:coreProperties>
</file>